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4E8-00C9-41E9-9DFD-5640AEBA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6030-C066-41AA-AA94-4D8AE0D2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1E5-2DF7-4EAD-983D-50CC0C80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ECDB-7D1B-47E9-B5D3-2D968164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36F-67CF-49F9-A9B1-DE6FD519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26F9-0CB1-436C-8308-5ADC0A71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7BB-A239-437D-93FB-2E47FB8F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EDB-DFEA-4A24-90E8-8C8784B3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797-4841-462D-9A49-9B4EEC72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7DF6-6468-442D-B5EB-4156A121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433-501B-419B-88F3-7EF6EDA9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AF8-29B0-4F7F-ACF1-89B7E7CF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CD6F-4753-4599-A8EF-BCD4DB09C0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ruppo 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reare un sito cattolico per il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360" y="946080"/>
            <a:ext cx="832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91120" y="6705720"/>
            <a:ext cx="228600" cy="75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6705720"/>
            <a:ext cx="228600" cy="759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6705720"/>
            <a:ext cx="228600" cy="75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152280"/>
            <a:ext cx="22860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152280"/>
            <a:ext cx="228600" cy="763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1181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1623960"/>
            <a:ext cx="8915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omponenti del grup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BERDINI MA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ERREIRA DE SOUZA CLAUDEM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LAIM G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COLOZZI SALVA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UCCHINO CARM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FED-21C3-4896-B522-9BC76F092A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ruppo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reare un sito cattolico per il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360" y="946080"/>
            <a:ext cx="832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6705720"/>
            <a:ext cx="228600" cy="75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6705720"/>
            <a:ext cx="228600" cy="759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6705720"/>
            <a:ext cx="228600" cy="75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52280"/>
            <a:ext cx="22860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152280"/>
            <a:ext cx="228600" cy="763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1181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1623960"/>
            <a:ext cx="891540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Verdana"/>
              </a:rPr>
              <a:t>Modalità di interazione e metodo di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Verdana"/>
              </a:rPr>
              <a:t>Il forum è stato molto usato per dialogare in classe virtuale con i vari tu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Verdana"/>
              </a:rPr>
              <a:t>Molto usata anche la posta elettro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Verdana"/>
              </a:rPr>
              <a:t>La chat con qualche componente del grupp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Verdana"/>
              </a:rPr>
              <a:t>Si è tentato di costruire una pagina tenendo conto dell’apporto di tutti i componenti del grup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146-A987-461B-BC80-BD3427DC33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ruppo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reare un sito cattolico per il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360" y="946080"/>
            <a:ext cx="832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6705720"/>
            <a:ext cx="228600" cy="75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6705720"/>
            <a:ext cx="228600" cy="759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6705720"/>
            <a:ext cx="228600" cy="75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152280"/>
            <a:ext cx="22860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152280"/>
            <a:ext cx="228600" cy="763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1181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1623960"/>
            <a:ext cx="891540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Verdana"/>
              </a:rPr>
              <a:t>Aspetti positivi e aspetti negativi del modus proceden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Sentirsi parte di una Chiesa che cerca di rinnovarsi anche nel modo di comunicare il  kerigma incarnato nel mondo di ogg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Importanza del confronto di gruppo per un lavoro di quali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Stimoli ricevuti ad aggiornarsi da un punto di vista tecnico e contenutistico per realizzare siti di quali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Scambio di idee, anche amichevoli, proposta di work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Forse bisognerebbe supporre di meno la capacità da parte degli alunni di usare certi “aggiornamenti” dei linguaggi in uso nei me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Un certa difficoltà ad armonizzare contributi prodotti con linguaggi diversi per alcuni di noi non sufficientemente addentro nell’uso dei medesi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7AC9-751A-4E94-9FCE-3464B151CC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rupp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reare un sito cattolico per il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360" y="946080"/>
            <a:ext cx="832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6705720"/>
            <a:ext cx="228600" cy="75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6705720"/>
            <a:ext cx="228600" cy="759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6705720"/>
            <a:ext cx="228600" cy="759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152280"/>
            <a:ext cx="22860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152280"/>
            <a:ext cx="228600" cy="763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1181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8600" y="1623960"/>
            <a:ext cx="891540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Verdana"/>
              </a:rPr>
              <a:t>Il sito realizza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http://www4.glauco.it/weca_work/gruppob/sit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C5A-0F2C-4F55-BC56-4CB4EAD4E6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9:48:16Z</dcterms:created>
  <dc:creator>Novella Caterina</dc:creator>
  <dc:description/>
  <dc:language>en-US</dc:language>
  <cp:lastModifiedBy>novella</cp:lastModifiedBy>
  <dcterms:modified xsi:type="dcterms:W3CDTF">2007-05-07T15:27:21Z</dcterms:modified>
  <cp:revision>20</cp:revision>
  <dc:subject/>
  <dc:title>Presentazione di PowerPoint</dc:title>
</cp:coreProperties>
</file>