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642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041120" y="858600"/>
            <a:ext cx="455940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85960" y="4645080"/>
            <a:ext cx="4868640" cy="44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290160"/>
            <a:ext cx="28764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28764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5960" y="4645080"/>
            <a:ext cx="48686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290160"/>
            <a:ext cx="28764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28764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85960" y="4645080"/>
            <a:ext cx="48686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9290160"/>
            <a:ext cx="28764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28764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85960" y="4645080"/>
            <a:ext cx="48686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9290160"/>
            <a:ext cx="28764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8764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85960" y="4645080"/>
            <a:ext cx="48686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290160"/>
            <a:ext cx="28764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8764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85960" y="4645080"/>
            <a:ext cx="48686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290160"/>
            <a:ext cx="28764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8764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85960" y="4645080"/>
            <a:ext cx="48686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763800" y="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63800" y="929016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290160"/>
            <a:ext cx="28764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8764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042920" y="85896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85960" y="4645080"/>
            <a:ext cx="486864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8964720" cy="5122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83280" y="-74520"/>
            <a:ext cx="3959280" cy="758880"/>
          </a:xfrm>
          <a:prstGeom prst="rect">
            <a:avLst/>
          </a:prstGeom>
          <a:solidFill>
            <a:srgbClr val="dddddd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Gruppo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0" y="6554880"/>
            <a:ext cx="9153720" cy="302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Creare un sito cattolico per il 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360" y="946080"/>
            <a:ext cx="834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2560" y="6707160"/>
            <a:ext cx="225360" cy="7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7480" y="6707160"/>
            <a:ext cx="225360" cy="730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02040" y="6707160"/>
            <a:ext cx="225720" cy="730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92560" y="154080"/>
            <a:ext cx="225360" cy="7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97480" y="154080"/>
            <a:ext cx="225360" cy="730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26160" cy="1206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1880" y="1700280"/>
            <a:ext cx="8097840" cy="37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000066"/>
                </a:solidFill>
                <a:latin typeface="Verdana"/>
              </a:rPr>
              <a:t>Grazie</a:t>
            </a:r>
            <a:r>
              <a:rPr b="0" i="1" lang="en-US" sz="7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66"/>
                </a:solidFill>
                <a:latin typeface="Verdana"/>
              </a:rPr>
              <a:t>al Buon Dio,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66"/>
                </a:solidFill>
                <a:latin typeface="Verdana"/>
              </a:rPr>
              <a:t>alla B.V. Maria ed alla WECA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8964720" cy="5122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3280" y="-74520"/>
            <a:ext cx="3959280" cy="758880"/>
          </a:xfrm>
          <a:prstGeom prst="rect">
            <a:avLst/>
          </a:prstGeom>
          <a:solidFill>
            <a:srgbClr val="dddddd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Gruppo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0" y="6554880"/>
            <a:ext cx="9153720" cy="302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Creare un sito cattolico per il 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360" y="946080"/>
            <a:ext cx="834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2560" y="6707160"/>
            <a:ext cx="225360" cy="7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97480" y="6707160"/>
            <a:ext cx="225360" cy="730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02040" y="6707160"/>
            <a:ext cx="225720" cy="730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2560" y="154080"/>
            <a:ext cx="225360" cy="7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7480" y="154080"/>
            <a:ext cx="225360" cy="730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26160" cy="1206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3680" y="1454040"/>
            <a:ext cx="808488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Verdana"/>
              </a:rPr>
              <a:t>Componenti del gr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66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000066"/>
                </a:solidFill>
                <a:latin typeface="Verdana"/>
              </a:rPr>
              <a:t>Gessica</a:t>
            </a:r>
            <a:r>
              <a:rPr b="0" lang="it-I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700" spc="-1" strike="noStrike">
                <a:solidFill>
                  <a:srgbClr val="000066"/>
                </a:solidFill>
                <a:latin typeface="Verdana"/>
              </a:rPr>
              <a:t>- coordinatrice del gruppo e webcontent della sezione giovan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66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000066"/>
                </a:solidFill>
                <a:latin typeface="Verdana"/>
              </a:rPr>
              <a:t>Laura</a:t>
            </a:r>
            <a:r>
              <a:rPr b="0" lang="it-I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700" spc="-1" strike="noStrike">
                <a:solidFill>
                  <a:srgbClr val="000066"/>
                </a:solidFill>
                <a:latin typeface="Verdana"/>
              </a:rPr>
              <a:t>- webmaster esperta nella realizzazioni di pagina web e webcontent della sezione accessibile e giovan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66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000066"/>
                </a:solidFill>
                <a:latin typeface="Verdana"/>
              </a:rPr>
              <a:t>Luisa</a:t>
            </a:r>
            <a:r>
              <a:rPr b="0" lang="it-I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700" spc="-1" strike="noStrike">
                <a:solidFill>
                  <a:srgbClr val="000066"/>
                </a:solidFill>
                <a:latin typeface="Verdana"/>
              </a:rPr>
              <a:t>- webcontent della sezione bambin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66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000066"/>
                </a:solidFill>
                <a:latin typeface="Verdana"/>
              </a:rPr>
              <a:t>Guglielmo</a:t>
            </a:r>
            <a:r>
              <a:rPr b="0" lang="it-I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700" spc="-1" strike="noStrike">
                <a:solidFill>
                  <a:srgbClr val="000066"/>
                </a:solidFill>
                <a:latin typeface="Verdana"/>
              </a:rPr>
              <a:t>- ha dato un apporto ad ogni sezione, particolarmente alla sezione famiglie e terza-et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66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000066"/>
                </a:solidFill>
                <a:latin typeface="Verdana"/>
              </a:rPr>
              <a:t>Pasquale</a:t>
            </a:r>
            <a:r>
              <a:rPr b="0" lang="it-I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700" spc="-1" strike="noStrike">
                <a:solidFill>
                  <a:srgbClr val="000066"/>
                </a:solidFill>
                <a:latin typeface="Verdana"/>
              </a:rPr>
              <a:t>- realizzazione tecnica del sito, webcontent della  sezione famigl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buClr>
                <a:srgbClr val="000066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000066"/>
                </a:solidFill>
                <a:latin typeface="Verdana"/>
              </a:rPr>
              <a:t>Valerio</a:t>
            </a:r>
            <a:r>
              <a:rPr b="0" lang="it-IT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1700" spc="-1" strike="noStrike">
                <a:solidFill>
                  <a:srgbClr val="000066"/>
                </a:solidFill>
                <a:latin typeface="Verdana"/>
              </a:rPr>
              <a:t>- ha lavorato nella sezione terza-et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8964720" cy="5122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40" y="1440"/>
            <a:ext cx="9141120" cy="1140120"/>
          </a:xfrm>
          <a:prstGeom prst="rect">
            <a:avLst/>
          </a:prstGeom>
          <a:solidFill>
            <a:srgbClr val="dddddd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Gruppo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40" y="6554880"/>
            <a:ext cx="9153720" cy="302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Creare un sito cattolico per il 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1360" y="946080"/>
            <a:ext cx="834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92560" y="6707160"/>
            <a:ext cx="225360" cy="7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97480" y="6707160"/>
            <a:ext cx="225360" cy="730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2040" y="6707160"/>
            <a:ext cx="225720" cy="730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92560" y="154080"/>
            <a:ext cx="225360" cy="7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97480" y="154080"/>
            <a:ext cx="225360" cy="730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26160" cy="1206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15960" y="1631880"/>
            <a:ext cx="792468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66"/>
                </a:solidFill>
                <a:latin typeface="Verdana"/>
              </a:rPr>
              <a:t>Modalità di interazio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66"/>
                </a:solidFill>
                <a:latin typeface="Verdana"/>
              </a:rPr>
              <a:t>e metodo di lavo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12"/>
              </a:spcBef>
              <a:buClr>
                <a:srgbClr val="000066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2100" spc="-1" strike="noStrike">
                <a:solidFill>
                  <a:srgbClr val="000066"/>
                </a:solidFill>
                <a:latin typeface="Verdana"/>
              </a:rPr>
              <a:t>È nata tra noi una</a:t>
            </a:r>
            <a:r>
              <a:rPr b="1" lang="it-IT" sz="2100" spc="-1" strike="noStrike">
                <a:solidFill>
                  <a:srgbClr val="000066"/>
                </a:solidFill>
                <a:latin typeface="Verdana"/>
              </a:rPr>
              <a:t> unità speciale fondata </a:t>
            </a:r>
            <a:r>
              <a:rPr b="0" lang="it-IT" sz="2100" spc="-1" strike="noStrike">
                <a:solidFill>
                  <a:srgbClr val="000066"/>
                </a:solidFill>
                <a:latin typeface="Verdana"/>
              </a:rPr>
              <a:t>su </a:t>
            </a:r>
            <a:r>
              <a:rPr b="1" lang="it-IT" sz="2100" spc="-1" strike="noStrike">
                <a:solidFill>
                  <a:srgbClr val="000066"/>
                </a:solidFill>
                <a:latin typeface="Verdana"/>
              </a:rPr>
              <a:t>Gesù e Maria - </a:t>
            </a:r>
            <a:r>
              <a:rPr b="0" lang="it-IT" sz="2100" spc="-1" strike="noStrike">
                <a:solidFill>
                  <a:srgbClr val="000066"/>
                </a:solidFill>
                <a:latin typeface="Verdana"/>
              </a:rPr>
              <a:t>una piccola</a:t>
            </a:r>
            <a:r>
              <a:rPr b="1" lang="it-IT" sz="2100" spc="-1" strike="noStrike">
                <a:solidFill>
                  <a:srgbClr val="000066"/>
                </a:solidFill>
                <a:latin typeface="Verdana"/>
              </a:rPr>
              <a:t> chiesa “on line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312"/>
              </a:spcBef>
              <a:buClr>
                <a:srgbClr val="000066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2100" spc="-1" strike="noStrike">
                <a:solidFill>
                  <a:srgbClr val="000066"/>
                </a:solidFill>
                <a:latin typeface="Verdana"/>
              </a:rPr>
              <a:t>I contatti sono avvenuti con tutti i mezzi a nostra disposizione:</a:t>
            </a:r>
            <a:r>
              <a:rPr b="1" lang="it-IT" sz="2100" spc="-1" strike="noStrike">
                <a:solidFill>
                  <a:srgbClr val="000066"/>
                </a:solidFill>
                <a:latin typeface="Verdana"/>
              </a:rPr>
              <a:t> forum, chat, email, mailing list, messenger, telefono, fax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312"/>
              </a:spcBef>
              <a:buClr>
                <a:srgbClr val="000066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2100" spc="-1" strike="noStrike">
                <a:solidFill>
                  <a:srgbClr val="000066"/>
                </a:solidFill>
                <a:latin typeface="Verdana"/>
              </a:rPr>
              <a:t>Ogni proposta di cambio veniva</a:t>
            </a:r>
            <a:r>
              <a:rPr b="1" lang="it-IT" sz="2100" spc="-1" strike="noStrike">
                <a:solidFill>
                  <a:srgbClr val="000066"/>
                </a:solidFill>
                <a:latin typeface="Verdana"/>
              </a:rPr>
              <a:t> numerata </a:t>
            </a:r>
            <a:r>
              <a:rPr b="0" lang="it-IT" sz="2100" spc="-1" strike="noStrike">
                <a:solidFill>
                  <a:srgbClr val="000066"/>
                </a:solidFill>
                <a:latin typeface="Verdana"/>
              </a:rPr>
              <a:t>e </a:t>
            </a:r>
            <a:r>
              <a:rPr b="1" lang="it-IT" sz="2100" spc="-1" strike="noStrike">
                <a:solidFill>
                  <a:srgbClr val="000066"/>
                </a:solidFill>
                <a:latin typeface="Verdana"/>
              </a:rPr>
              <a:t>decisa insiem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8964720" cy="5122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0" y="1440"/>
            <a:ext cx="9141120" cy="1140120"/>
          </a:xfrm>
          <a:prstGeom prst="rect">
            <a:avLst/>
          </a:prstGeom>
          <a:solidFill>
            <a:srgbClr val="dddddd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Gruppo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0" y="6554880"/>
            <a:ext cx="9153720" cy="302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Creare un sito cattolico per il 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360" y="946080"/>
            <a:ext cx="834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92560" y="6707160"/>
            <a:ext cx="225360" cy="7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6707160"/>
            <a:ext cx="225360" cy="730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02040" y="6707160"/>
            <a:ext cx="225720" cy="730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92560" y="154080"/>
            <a:ext cx="225360" cy="7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97480" y="154080"/>
            <a:ext cx="225360" cy="730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26160" cy="1206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640" y="1558800"/>
            <a:ext cx="838224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66"/>
                </a:solidFill>
                <a:latin typeface="Verdana"/>
              </a:rPr>
              <a:t>Aspetti </a:t>
            </a:r>
            <a:r>
              <a:rPr b="1" lang="it-IT" sz="3200" spc="-1" strike="noStrike">
                <a:solidFill>
                  <a:srgbClr val="000066"/>
                </a:solidFill>
                <a:latin typeface="Verdana"/>
              </a:rPr>
              <a:t>positivi </a:t>
            </a:r>
            <a:r>
              <a:rPr b="0" lang="it-IT" sz="3200" spc="-1" strike="noStrike">
                <a:solidFill>
                  <a:srgbClr val="000066"/>
                </a:solidFill>
                <a:latin typeface="Verdana"/>
              </a:rPr>
              <a:t>e aspetti</a:t>
            </a:r>
            <a:r>
              <a:rPr b="1" lang="it-IT" sz="3200" spc="-1" strike="noStrike">
                <a:solidFill>
                  <a:srgbClr val="000066"/>
                </a:solidFill>
                <a:latin typeface="Verdana"/>
              </a:rPr>
              <a:t> negativi </a:t>
            </a:r>
            <a:r>
              <a:rPr b="0" lang="it-IT" sz="3200" spc="-1" strike="noStrike">
                <a:solidFill>
                  <a:srgbClr val="000066"/>
                </a:solidFill>
                <a:latin typeface="Verdana"/>
              </a:rPr>
              <a:t>del </a:t>
            </a:r>
            <a:r>
              <a:rPr b="1" lang="it-IT" sz="3200" spc="-1" strike="noStrike">
                <a:solidFill>
                  <a:srgbClr val="000066"/>
                </a:solidFill>
                <a:latin typeface="Verdana"/>
              </a:rPr>
              <a:t>modus proceden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2200" spc="-1" strike="noStrike">
                <a:solidFill>
                  <a:srgbClr val="000066"/>
                </a:solidFill>
                <a:latin typeface="Verdana"/>
              </a:rPr>
              <a:t>Tutti abbiamo cercato di</a:t>
            </a:r>
            <a:r>
              <a:rPr b="1" lang="it-IT" sz="2200" spc="-1" strike="noStrike">
                <a:solidFill>
                  <a:srgbClr val="000066"/>
                </a:solidFill>
                <a:latin typeface="Verdana"/>
              </a:rPr>
              <a:t> partecipare </a:t>
            </a:r>
            <a:r>
              <a:rPr b="0" lang="it-IT" sz="2200" spc="-1" strike="noStrike">
                <a:solidFill>
                  <a:srgbClr val="000066"/>
                </a:solidFill>
                <a:latin typeface="Verdana"/>
              </a:rPr>
              <a:t>il più possibile ad</a:t>
            </a:r>
            <a:r>
              <a:rPr b="1" lang="it-IT" sz="2200" spc="-1" strike="noStrike">
                <a:solidFill>
                  <a:srgbClr val="000066"/>
                </a:solidFill>
                <a:latin typeface="Verdana"/>
              </a:rPr>
              <a:t> ogni fase del lavoro. </a:t>
            </a:r>
            <a:r>
              <a:rPr b="0" lang="it-IT" sz="2200" spc="-1" strike="noStrike">
                <a:solidFill>
                  <a:srgbClr val="000066"/>
                </a:solidFill>
                <a:latin typeface="Verdana"/>
              </a:rPr>
              <a:t>Chi era più</a:t>
            </a:r>
            <a:r>
              <a:rPr b="1" lang="it-IT" sz="2200" spc="-1" strike="noStrike">
                <a:solidFill>
                  <a:srgbClr val="000066"/>
                </a:solidFill>
                <a:latin typeface="Verdana"/>
              </a:rPr>
              <a:t> esperto spiegava </a:t>
            </a:r>
            <a:r>
              <a:rPr b="0" lang="it-IT" sz="2200" spc="-1" strike="noStrike">
                <a:solidFill>
                  <a:srgbClr val="000066"/>
                </a:solidFill>
                <a:latin typeface="Verdana"/>
              </a:rPr>
              <a:t>agli altri quanto</a:t>
            </a:r>
            <a:r>
              <a:rPr b="1" lang="it-IT" sz="2200" spc="-1" strike="noStrike">
                <a:solidFill>
                  <a:srgbClr val="000066"/>
                </a:solidFill>
                <a:latin typeface="Verdana"/>
              </a:rPr>
              <a:t> elabora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2200" spc="-1" strike="noStrike">
                <a:solidFill>
                  <a:srgbClr val="000066"/>
                </a:solidFill>
                <a:latin typeface="Verdana"/>
              </a:rPr>
              <a:t>Abbiamo </a:t>
            </a:r>
            <a:r>
              <a:rPr b="1" lang="it-IT" sz="2200" spc="-1" strike="noStrike">
                <a:solidFill>
                  <a:srgbClr val="000066"/>
                </a:solidFill>
                <a:latin typeface="Verdana"/>
              </a:rPr>
              <a:t>appreso, ricevuto e donato </a:t>
            </a:r>
            <a:r>
              <a:rPr b="0" lang="it-IT" sz="2200" spc="-1" strike="noStrike">
                <a:solidFill>
                  <a:srgbClr val="000066"/>
                </a:solidFill>
                <a:latin typeface="Verdana"/>
              </a:rPr>
              <a:t>qualcosa l’uno all’altro</a:t>
            </a:r>
            <a:r>
              <a:rPr b="1" lang="it-IT" sz="22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it-IT" sz="2200" spc="-1" strike="noStrike">
                <a:solidFill>
                  <a:srgbClr val="000066"/>
                </a:solidFill>
                <a:latin typeface="Verdana"/>
              </a:rPr>
              <a:t>Ci sono stati anche</a:t>
            </a:r>
            <a:r>
              <a:rPr b="1" lang="it-IT" sz="2200" spc="-1" strike="noStrike">
                <a:solidFill>
                  <a:srgbClr val="000066"/>
                </a:solidFill>
                <a:latin typeface="Verdana"/>
              </a:rPr>
              <a:t> momenti difficili, </a:t>
            </a:r>
            <a:r>
              <a:rPr b="0" lang="it-IT" sz="2200" spc="-1" strike="noStrike">
                <a:solidFill>
                  <a:srgbClr val="000066"/>
                </a:solidFill>
                <a:latin typeface="Verdana"/>
              </a:rPr>
              <a:t>che ci hanno aiutato a</a:t>
            </a:r>
            <a:r>
              <a:rPr b="1" lang="it-IT" sz="2200" spc="-1" strike="noStrike">
                <a:solidFill>
                  <a:srgbClr val="000066"/>
                </a:solidFill>
                <a:latin typeface="Verdana"/>
              </a:rPr>
              <a:t> rinunciare </a:t>
            </a:r>
            <a:r>
              <a:rPr b="0" lang="it-IT" sz="2200" spc="-1" strike="noStrike">
                <a:solidFill>
                  <a:srgbClr val="000066"/>
                </a:solidFill>
                <a:latin typeface="Verdana"/>
              </a:rPr>
              <a:t>un poco alle</a:t>
            </a:r>
            <a:r>
              <a:rPr b="1" lang="it-IT" sz="2200" spc="-1" strike="noStrike">
                <a:solidFill>
                  <a:srgbClr val="000066"/>
                </a:solidFill>
                <a:latin typeface="Verdana"/>
              </a:rPr>
              <a:t> nostre idee </a:t>
            </a:r>
            <a:r>
              <a:rPr b="0" lang="it-IT" sz="2200" spc="-1" strike="noStrike">
                <a:solidFill>
                  <a:srgbClr val="000066"/>
                </a:solidFill>
                <a:latin typeface="Verdana"/>
              </a:rPr>
              <a:t>e così è venuto fuori qualcosa di</a:t>
            </a:r>
            <a:r>
              <a:rPr b="1" lang="it-IT" sz="2200" spc="-1" strike="noStrike">
                <a:solidFill>
                  <a:srgbClr val="000066"/>
                </a:solidFill>
                <a:latin typeface="Verdana"/>
              </a:rPr>
              <a:t> ancora più bel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8964720" cy="5122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0" y="1440"/>
            <a:ext cx="9141120" cy="1140120"/>
          </a:xfrm>
          <a:prstGeom prst="rect">
            <a:avLst/>
          </a:prstGeom>
          <a:solidFill>
            <a:srgbClr val="dddddd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Gruppo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0" y="6554880"/>
            <a:ext cx="9153720" cy="302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Creare un sito cattolico per il 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1360" y="946080"/>
            <a:ext cx="834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2560" y="6707160"/>
            <a:ext cx="225360" cy="7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97480" y="6707160"/>
            <a:ext cx="225360" cy="730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2040" y="6707160"/>
            <a:ext cx="225720" cy="730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92560" y="154080"/>
            <a:ext cx="225360" cy="7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97480" y="154080"/>
            <a:ext cx="225360" cy="730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26160" cy="1206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73160" y="2708280"/>
            <a:ext cx="897732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amo stati creati a immagine e somiglianza di Dio.  Lui ci ha fatto per amore, per renderci partecipi della sua vita beata, come possiamo tacere e non COMUNICARE questa GIOIA agli altri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37000" y="1341360"/>
            <a:ext cx="5963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Verdana"/>
              </a:rPr>
              <a:t>www.gioiadicomuniCARE.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8964720" cy="5122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0120" y="2057400"/>
            <a:ext cx="8547120" cy="2044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06960" y="77760"/>
            <a:ext cx="3959280" cy="758880"/>
          </a:xfrm>
          <a:prstGeom prst="rect">
            <a:avLst/>
          </a:prstGeom>
          <a:solidFill>
            <a:srgbClr val="dddddd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Gruppo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0" y="6554880"/>
            <a:ext cx="9153720" cy="302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Creare un sito cattolico per il 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360" y="946080"/>
            <a:ext cx="834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92560" y="6707160"/>
            <a:ext cx="225360" cy="7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7480" y="6707160"/>
            <a:ext cx="225360" cy="730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02040" y="6707160"/>
            <a:ext cx="225720" cy="730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2560" y="154080"/>
            <a:ext cx="225360" cy="7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97480" y="154080"/>
            <a:ext cx="225360" cy="730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826160" cy="1206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990600" y="1197000"/>
            <a:ext cx="28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La scelta del 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609480" y="2705040"/>
            <a:ext cx="2336760" cy="1460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143680" y="2705040"/>
            <a:ext cx="2895480" cy="1714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689120" y="2781360"/>
            <a:ext cx="5079960" cy="1892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0" y="2708280"/>
            <a:ext cx="9144000" cy="21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8964720" cy="5122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0" y="1440"/>
            <a:ext cx="9141120" cy="1140120"/>
          </a:xfrm>
          <a:prstGeom prst="rect">
            <a:avLst/>
          </a:prstGeom>
          <a:solidFill>
            <a:srgbClr val="dddddd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Gruppo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0" y="6554880"/>
            <a:ext cx="9153720" cy="302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Creare un sito cattolico per il 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1360" y="946080"/>
            <a:ext cx="834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92560" y="6707160"/>
            <a:ext cx="225360" cy="7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7480" y="6707160"/>
            <a:ext cx="225360" cy="730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02040" y="6707160"/>
            <a:ext cx="225720" cy="7308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92560" y="154080"/>
            <a:ext cx="225360" cy="7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97480" y="154080"/>
            <a:ext cx="225360" cy="730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26160" cy="1206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04920" y="1752480"/>
            <a:ext cx="3798720" cy="428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87320" y="2311560"/>
            <a:ext cx="7569360" cy="2234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203640" y="1197000"/>
            <a:ext cx="5472000" cy="52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evt="end">
                                        <p:tn val="173"/>
                                      </p:cond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5:00:50Z</dcterms:created>
  <dc:creator>Q951595</dc:creator>
  <dc:description/>
  <dc:language>en-US</dc:language>
  <cp:lastModifiedBy>Q951595</cp:lastModifiedBy>
  <dcterms:modified xsi:type="dcterms:W3CDTF">2007-05-16T15:56:47Z</dcterms:modified>
  <cp:revision>3</cp:revision>
  <dc:subject/>
  <dc:title>Diapositiva 1</dc:title>
</cp:coreProperties>
</file>