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156-F24F-4C0F-B688-1AA32095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460-9F3C-4BF6-91C4-AB7868C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BA6-E82C-4B84-95E9-8A3B78A3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F3C-3269-4B72-A3C6-95F02B54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923-E666-409C-85E5-B01ECBD3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E53-A207-46DA-B82A-67136E03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79C-6914-4007-8A36-E878F08C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62C-9C3E-49FA-B0B4-9A6D33F3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67B-7A45-4AA2-B8F0-CD3577D5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8A7-8BD9-40FA-A8EA-7CAEE6E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23A-589A-4078-A323-CE3CA9E0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6F0-8810-460D-88FA-57A2DB56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3AA9-4EED-4846-A1CA-B74C9CDF5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0"/>
            <a:ext cx="4356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1623960"/>
            <a:ext cx="8915400" cy="41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omponenti del gr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Stefano Procop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Francesco Strazzel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Francesco Far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Cosimo Colandr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Andrea Na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Verdana"/>
              </a:rPr>
              <a:t>Mario Napoleo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BF6-A043-44A6-B40F-B5AB0C6874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88000" y="0"/>
            <a:ext cx="4356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1623960"/>
            <a:ext cx="8915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Modalità di interazione e metodo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la posta elettro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piccolo approccio anche con la C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B66-5264-48F8-BDA0-3868D7A768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788000" y="0"/>
            <a:ext cx="4356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1623960"/>
            <a:ext cx="891540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Aspetti positivi e aspetti negativi del modus proced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interazione con altre pers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olta attenzione da parte dei t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ande fruibilità del 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momenti di bu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qualche lezione in più sull’uso dei programmi di 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qualche incontro durante il corso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4D7-0FA6-4CFD-AE7A-7536E7EE65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88000" y="0"/>
            <a:ext cx="4356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1623960"/>
            <a:ext cx="8915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Verdana"/>
              </a:rPr>
              <a:t>Il sito realizz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Verdana"/>
              </a:rPr>
              <a:t>www.stepro.it/gruppo_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E007-6C11-4CF5-B5D2-7FE6C83F34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9:48:16Z</dcterms:created>
  <dc:creator>Novella Caterina</dc:creator>
  <dc:description/>
  <dc:language>en-US</dc:language>
  <cp:lastModifiedBy>f</cp:lastModifiedBy>
  <dcterms:modified xsi:type="dcterms:W3CDTF">2007-05-03T09:06:09Z</dcterms:modified>
  <cp:revision>9</cp:revision>
  <dc:subject/>
  <dc:title>Presentazione di PowerPoint</dc:title>
</cp:coreProperties>
</file>